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1DAE-0B32-4988-87C4-C64F9333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53C-6E4D-457F-88B0-E16B2957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E7A-4AAF-4AD7-8B5A-68BC1BD8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F1D9-30B2-4297-88AE-44AF58B8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540A-587C-41F4-8523-DDA23C63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F965-40CC-4BF7-B857-E8A3BEE7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EB83-B062-4E0B-9125-8CAAE152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D414-4670-43EC-AFF4-BC7E67BB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9F5-3105-4321-BA8C-969A3B28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4C06-0EA3-4F85-8C6B-89E57689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6CA-3FF0-4644-9249-C962D390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96F-E72B-4B78-915B-E8D20452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CBA2-371D-41DB-B167-319ECC1A2858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360" y="3027240"/>
            <a:ext cx="498024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8c7"/>
                </a:solidFill>
                <a:latin typeface="Verdana"/>
              </a:rPr>
              <a:t>PortPlus Message in SS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8c7"/>
                </a:solidFill>
                <a:latin typeface="Verdana"/>
              </a:rPr>
              <a:t>Send-Notification mechanism via XM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45000" y="1557360"/>
            <a:ext cx="452736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SSN Workshop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Lisbon 11-12 June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2b71"/>
                </a:solidFill>
                <a:latin typeface="Verdana"/>
              </a:rPr>
              <a:t>[SSN 11/3/5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65800" y="505152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b71"/>
                </a:solidFill>
                <a:latin typeface="Verdana"/>
              </a:rPr>
              <a:t>Lisbon, 11</a:t>
            </a:r>
            <a:r>
              <a:rPr b="1" lang="en-US" sz="1600" spc="-1" strike="noStrike" baseline="30000">
                <a:solidFill>
                  <a:srgbClr val="002b71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002b71"/>
                </a:solidFill>
                <a:latin typeface="Verdana"/>
              </a:rPr>
              <a:t>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1681-C856-4EDA-903D-5FCA2D940E27}" type="slidenum">
              <a:t>1</a:t>
            </a:fld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New attributes’ naming convention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In order to: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1440" indent="-1440" algn="just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orrespond to the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data contex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It affects principally: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1440" indent="-1440">
              <a:spcBef>
                <a:spcPts val="499"/>
              </a:spcBef>
              <a:buClr>
                <a:srgbClr val="002b7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2b71"/>
                </a:solidFill>
                <a:uFillTx/>
                <a:latin typeface="Verdana"/>
              </a:rPr>
              <a:t>Location attributes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(LastPort </a:t>
            </a:r>
            <a:r>
              <a:rPr b="0" lang="en-US" sz="2000" spc="-1" strike="noStrike">
                <a:solidFill>
                  <a:srgbClr val="002b71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PortOfCall </a:t>
            </a:r>
            <a:r>
              <a:rPr b="0" lang="en-US" sz="2000" spc="-1" strike="noStrike">
                <a:solidFill>
                  <a:srgbClr val="002b71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NextPort)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1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1440" indent="-1440">
              <a:spcBef>
                <a:spcPts val="499"/>
              </a:spcBef>
              <a:buClr>
                <a:srgbClr val="002b7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2b71"/>
                </a:solidFill>
                <a:uFillTx/>
                <a:latin typeface="Verdana"/>
              </a:rPr>
              <a:t>Time-related attributes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 (ETA, ETD, ATA, ATD)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E332-FAC8-4BEA-9D54-F6EF86EFD76D}" type="slidenum">
              <a:t>10</a:t>
            </a:fld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275600" y="4049640"/>
            <a:ext cx="1511280" cy="2160720"/>
          </a:xfrm>
          <a:prstGeom prst="ellipse">
            <a:avLst/>
          </a:prstGeom>
          <a:solidFill>
            <a:srgbClr val="00cc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1916280"/>
            <a:ext cx="3097080" cy="4321080"/>
          </a:xfrm>
          <a:prstGeom prst="ellipse">
            <a:avLst/>
          </a:prstGeom>
          <a:solidFill>
            <a:srgbClr val="00cc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1680" y="2747880"/>
            <a:ext cx="1511280" cy="3529080"/>
          </a:xfrm>
          <a:prstGeom prst="ellipse">
            <a:avLst/>
          </a:prstGeom>
          <a:solidFill>
            <a:srgbClr val="00cc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Schematic of new naming convention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14000">
            <a:off x="6300720" y="3500280"/>
            <a:ext cx="738360" cy="833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105440" y="3452760"/>
            <a:ext cx="1296720" cy="906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928800">
            <a:off x="2484000" y="466704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8360" y="4451400"/>
            <a:ext cx="10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Viner Hand ITC"/>
              </a:rPr>
              <a:t>Last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89240" y="4568760"/>
            <a:ext cx="21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Viner Hand ITC"/>
              </a:rPr>
              <a:t>Port of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5013360"/>
            <a:ext cx="115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iner Hand ITC"/>
              </a:rPr>
              <a:t>Next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95280" y="3922560"/>
            <a:ext cx="647640" cy="452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7740720" y="4292640"/>
            <a:ext cx="865080" cy="603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92360" y="4451400"/>
            <a:ext cx="5832360" cy="0"/>
          </a:xfrm>
          <a:prstGeom prst="line">
            <a:avLst/>
          </a:prstGeom>
          <a:ln w="824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20974800">
            <a:off x="247320" y="4747680"/>
            <a:ext cx="235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Verdana"/>
              </a:rPr>
              <a:t>ETDFromLast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20974800">
            <a:off x="3564000" y="51080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Verdana"/>
              </a:rPr>
              <a:t>PositionInPortOf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20974800">
            <a:off x="3651120" y="2262240"/>
            <a:ext cx="214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Verdana"/>
              </a:rPr>
              <a:t>ETAtoPortOf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20974800">
            <a:off x="4017600" y="2752200"/>
            <a:ext cx="239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Verdana"/>
              </a:rPr>
              <a:t>ETDfromPortOf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20974800">
            <a:off x="7164000" y="539748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Verdana"/>
              </a:rPr>
              <a:t>ETAtoNext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20974800">
            <a:off x="4140360" y="31032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Verdana"/>
              </a:rPr>
              <a:t>A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20974800">
            <a:off x="3709800" y="2604960"/>
            <a:ext cx="90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Verdana"/>
              </a:rPr>
              <a:t>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777-05A0-4EB9-B790-2994848ABA92}" type="slidenum">
              <a:t>11</a:t>
            </a:fld>
          </a:p>
        </p:txBody>
      </p:sp>
    </p:spTree>
  </p:cSld>
  <p:transition spd="slow">
    <p:dissolv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New Rule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159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ShipCallID has to be declared in every message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NotificationStatus element hould be declared always as well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Update procedure will ONLY affect attributes that were reported in the original message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Should an </a:t>
            </a:r>
            <a:r>
              <a:rPr b="1" lang="en-GB" sz="1600" spc="-1" strike="noStrike" u="sng">
                <a:solidFill>
                  <a:srgbClr val="002b71"/>
                </a:solidFill>
                <a:uFillTx/>
                <a:latin typeface="Verdana"/>
              </a:rPr>
              <a:t>U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pdate  message be received before the original message has been registered (</a:t>
            </a:r>
            <a:r>
              <a:rPr b="1" lang="en-GB" sz="1600" spc="-1" strike="noStrike" u="sng">
                <a:solidFill>
                  <a:srgbClr val="002b71"/>
                </a:solidFill>
                <a:uFillTx/>
                <a:latin typeface="Verdana"/>
              </a:rPr>
              <a:t>N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ew or former </a:t>
            </a:r>
            <a:r>
              <a:rPr b="1" lang="en-GB" sz="1600" spc="-1" strike="noStrike" u="sng">
                <a:solidFill>
                  <a:srgbClr val="002b71"/>
                </a:solidFill>
                <a:uFillTx/>
                <a:latin typeface="Verdana"/>
              </a:rPr>
              <a:t>U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pdate), the message will be stored by SSN-EIS but a warning message will be sent to data provider as well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Should two or more messages be sent with UpdateStatus </a:t>
            </a:r>
            <a:r>
              <a:rPr b="1" lang="en-GB" sz="1600" spc="-1" strike="noStrike" u="sng">
                <a:solidFill>
                  <a:srgbClr val="002b71"/>
                </a:solidFill>
                <a:uFillTx/>
                <a:latin typeface="Verdana"/>
              </a:rPr>
              <a:t>N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ew and with same ShipCallID, </a:t>
            </a:r>
            <a:r>
              <a:rPr b="0" lang="en-GB" sz="1600" spc="-1" strike="noStrike" u="sng">
                <a:solidFill>
                  <a:srgbClr val="002b71"/>
                </a:solidFill>
                <a:uFillTx/>
                <a:latin typeface="Verdana"/>
              </a:rPr>
              <a:t>only the first will be accepted by SSN-EIS  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00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Every time an Update is sent to SSN-EIS, all attributes sent along with the previous message(s) shall be re-included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3F1-1436-4FE5-809D-51864B603F76}" type="slidenum">
              <a:t>12</a:t>
            </a:fld>
          </a:p>
        </p:txBody>
      </p:sp>
    </p:spTree>
  </p:cSld>
  <p:transition spd="slow">
    <p:dissolv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16000" y="1125360"/>
            <a:ext cx="4033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Tracking notifications’ sequence mechanism</a:t>
            </a:r>
            <a:endParaRPr b="1" lang="en-US" sz="1800" spc="-1" strike="noStrike">
              <a:solidFill>
                <a:srgbClr val="0078c7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24000" y="1557360"/>
          <a:ext cx="8424720" cy="507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557360"/>
                    <a:ext cx="842472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24000" y="5157720"/>
            <a:ext cx="410364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93760" y="3112920"/>
            <a:ext cx="2082960" cy="2303640"/>
          </a:xfrm>
          <a:custGeom>
            <a:avLst/>
            <a:gdLst/>
            <a:ahLst/>
            <a:rect l="l" t="t" r="r" b="b"/>
            <a:pathLst>
              <a:path w="1394" h="1402">
                <a:moveTo>
                  <a:pt x="733" y="1402"/>
                </a:moveTo>
                <a:cubicBezTo>
                  <a:pt x="671" y="1396"/>
                  <a:pt x="637" y="1389"/>
                  <a:pt x="582" y="1372"/>
                </a:cubicBezTo>
                <a:cubicBezTo>
                  <a:pt x="529" y="1337"/>
                  <a:pt x="470" y="1312"/>
                  <a:pt x="415" y="1281"/>
                </a:cubicBezTo>
                <a:cubicBezTo>
                  <a:pt x="391" y="1267"/>
                  <a:pt x="382" y="1251"/>
                  <a:pt x="355" y="1243"/>
                </a:cubicBezTo>
                <a:cubicBezTo>
                  <a:pt x="332" y="1221"/>
                  <a:pt x="305" y="1200"/>
                  <a:pt x="279" y="1182"/>
                </a:cubicBezTo>
                <a:cubicBezTo>
                  <a:pt x="259" y="1153"/>
                  <a:pt x="237" y="1129"/>
                  <a:pt x="211" y="1106"/>
                </a:cubicBezTo>
                <a:cubicBezTo>
                  <a:pt x="198" y="1094"/>
                  <a:pt x="186" y="1081"/>
                  <a:pt x="173" y="1069"/>
                </a:cubicBezTo>
                <a:cubicBezTo>
                  <a:pt x="168" y="1064"/>
                  <a:pt x="157" y="1053"/>
                  <a:pt x="157" y="1053"/>
                </a:cubicBezTo>
                <a:cubicBezTo>
                  <a:pt x="122" y="944"/>
                  <a:pt x="152" y="1046"/>
                  <a:pt x="157" y="758"/>
                </a:cubicBezTo>
                <a:cubicBezTo>
                  <a:pt x="161" y="498"/>
                  <a:pt x="0" y="216"/>
                  <a:pt x="203" y="83"/>
                </a:cubicBezTo>
                <a:cubicBezTo>
                  <a:pt x="213" y="55"/>
                  <a:pt x="219" y="47"/>
                  <a:pt x="248" y="38"/>
                </a:cubicBezTo>
                <a:cubicBezTo>
                  <a:pt x="267" y="20"/>
                  <a:pt x="287" y="14"/>
                  <a:pt x="309" y="0"/>
                </a:cubicBezTo>
                <a:cubicBezTo>
                  <a:pt x="317" y="40"/>
                  <a:pt x="312" y="82"/>
                  <a:pt x="324" y="121"/>
                </a:cubicBezTo>
                <a:cubicBezTo>
                  <a:pt x="327" y="130"/>
                  <a:pt x="340" y="130"/>
                  <a:pt x="347" y="136"/>
                </a:cubicBezTo>
                <a:cubicBezTo>
                  <a:pt x="384" y="166"/>
                  <a:pt x="339" y="137"/>
                  <a:pt x="377" y="174"/>
                </a:cubicBezTo>
                <a:cubicBezTo>
                  <a:pt x="389" y="185"/>
                  <a:pt x="402" y="195"/>
                  <a:pt x="415" y="205"/>
                </a:cubicBezTo>
                <a:cubicBezTo>
                  <a:pt x="430" y="216"/>
                  <a:pt x="461" y="235"/>
                  <a:pt x="461" y="235"/>
                </a:cubicBezTo>
                <a:cubicBezTo>
                  <a:pt x="476" y="285"/>
                  <a:pt x="454" y="236"/>
                  <a:pt x="491" y="265"/>
                </a:cubicBezTo>
                <a:cubicBezTo>
                  <a:pt x="498" y="271"/>
                  <a:pt x="499" y="282"/>
                  <a:pt x="506" y="288"/>
                </a:cubicBezTo>
                <a:cubicBezTo>
                  <a:pt x="538" y="314"/>
                  <a:pt x="630" y="316"/>
                  <a:pt x="658" y="318"/>
                </a:cubicBezTo>
                <a:cubicBezTo>
                  <a:pt x="712" y="338"/>
                  <a:pt x="640" y="314"/>
                  <a:pt x="749" y="333"/>
                </a:cubicBezTo>
                <a:cubicBezTo>
                  <a:pt x="769" y="337"/>
                  <a:pt x="809" y="349"/>
                  <a:pt x="809" y="349"/>
                </a:cubicBezTo>
                <a:cubicBezTo>
                  <a:pt x="861" y="383"/>
                  <a:pt x="838" y="373"/>
                  <a:pt x="877" y="386"/>
                </a:cubicBezTo>
                <a:cubicBezTo>
                  <a:pt x="882" y="391"/>
                  <a:pt x="890" y="395"/>
                  <a:pt x="893" y="402"/>
                </a:cubicBezTo>
                <a:cubicBezTo>
                  <a:pt x="900" y="416"/>
                  <a:pt x="895" y="438"/>
                  <a:pt x="908" y="447"/>
                </a:cubicBezTo>
                <a:cubicBezTo>
                  <a:pt x="997" y="506"/>
                  <a:pt x="1081" y="497"/>
                  <a:pt x="1188" y="508"/>
                </a:cubicBezTo>
                <a:cubicBezTo>
                  <a:pt x="1216" y="516"/>
                  <a:pt x="1236" y="530"/>
                  <a:pt x="1264" y="538"/>
                </a:cubicBezTo>
                <a:cubicBezTo>
                  <a:pt x="1272" y="543"/>
                  <a:pt x="1281" y="546"/>
                  <a:pt x="1287" y="553"/>
                </a:cubicBezTo>
                <a:cubicBezTo>
                  <a:pt x="1292" y="559"/>
                  <a:pt x="1288" y="570"/>
                  <a:pt x="1294" y="576"/>
                </a:cubicBezTo>
                <a:cubicBezTo>
                  <a:pt x="1305" y="588"/>
                  <a:pt x="1348" y="594"/>
                  <a:pt x="1363" y="599"/>
                </a:cubicBezTo>
                <a:cubicBezTo>
                  <a:pt x="1394" y="695"/>
                  <a:pt x="1372" y="726"/>
                  <a:pt x="1294" y="750"/>
                </a:cubicBezTo>
                <a:cubicBezTo>
                  <a:pt x="1254" y="811"/>
                  <a:pt x="1307" y="737"/>
                  <a:pt x="1256" y="788"/>
                </a:cubicBezTo>
                <a:cubicBezTo>
                  <a:pt x="1250" y="794"/>
                  <a:pt x="1249" y="806"/>
                  <a:pt x="1241" y="811"/>
                </a:cubicBezTo>
                <a:cubicBezTo>
                  <a:pt x="1228" y="819"/>
                  <a:pt x="1209" y="817"/>
                  <a:pt x="1196" y="826"/>
                </a:cubicBezTo>
                <a:cubicBezTo>
                  <a:pt x="1143" y="860"/>
                  <a:pt x="1167" y="850"/>
                  <a:pt x="1128" y="864"/>
                </a:cubicBezTo>
                <a:cubicBezTo>
                  <a:pt x="1109" y="882"/>
                  <a:pt x="1089" y="888"/>
                  <a:pt x="1067" y="902"/>
                </a:cubicBezTo>
                <a:cubicBezTo>
                  <a:pt x="1035" y="950"/>
                  <a:pt x="978" y="1021"/>
                  <a:pt x="931" y="1053"/>
                </a:cubicBezTo>
                <a:cubicBezTo>
                  <a:pt x="908" y="1088"/>
                  <a:pt x="891" y="1116"/>
                  <a:pt x="862" y="1144"/>
                </a:cubicBezTo>
                <a:cubicBezTo>
                  <a:pt x="839" y="1192"/>
                  <a:pt x="809" y="1243"/>
                  <a:pt x="779" y="1288"/>
                </a:cubicBezTo>
                <a:cubicBezTo>
                  <a:pt x="769" y="1303"/>
                  <a:pt x="759" y="1319"/>
                  <a:pt x="749" y="1334"/>
                </a:cubicBezTo>
                <a:cubicBezTo>
                  <a:pt x="744" y="1342"/>
                  <a:pt x="733" y="1357"/>
                  <a:pt x="733" y="1357"/>
                </a:cubicBezTo>
                <a:cubicBezTo>
                  <a:pt x="742" y="1398"/>
                  <a:pt x="750" y="1385"/>
                  <a:pt x="733" y="14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29160" y="1773360"/>
            <a:ext cx="388764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59640" y="3357720"/>
            <a:ext cx="2127240" cy="31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3357720"/>
            <a:ext cx="2519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27640" y="4038480"/>
            <a:ext cx="7207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75000" y="5022720"/>
            <a:ext cx="296100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3357720"/>
            <a:ext cx="215892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484280"/>
            <a:ext cx="2938320" cy="504036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63760" y="1484280"/>
            <a:ext cx="1236960" cy="187344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57640" y="4869000"/>
            <a:ext cx="1027080" cy="16650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1484280"/>
            <a:ext cx="3889080" cy="187344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6534000"/>
            <a:ext cx="66247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5874-8774-46B4-B15B-C24110E8671E}" type="slidenum">
              <a:t>13</a:t>
            </a:fld>
          </a:p>
        </p:txBody>
      </p:sp>
    </p:spTree>
  </p:cSld>
  <p:transition spd="slow">
    <p:dissolv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867280" y="1125000"/>
            <a:ext cx="288288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8c7"/>
                </a:solidFill>
                <a:latin typeface="Verdana"/>
              </a:rPr>
              <a:t>Update sequence/ database management</a:t>
            </a:r>
            <a:endParaRPr b="1" lang="en-US" sz="1600" spc="-1" strike="noStrike">
              <a:solidFill>
                <a:srgbClr val="0078c7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000" y="1650960"/>
          <a:ext cx="8207280" cy="466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650960"/>
                    <a:ext cx="820728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36600" y="3274920"/>
            <a:ext cx="8391600" cy="101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68360" y="2276640"/>
            <a:ext cx="616752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6600" y="4254480"/>
            <a:ext cx="8399520" cy="11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9200" y="5213520"/>
            <a:ext cx="83995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68360" y="3284640"/>
            <a:ext cx="612936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68360" y="4282920"/>
            <a:ext cx="61293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5249880"/>
            <a:ext cx="6191280" cy="100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2276640"/>
            <a:ext cx="1873080" cy="1008000"/>
          </a:xfrm>
          <a:prstGeom prst="rect">
            <a:avLst/>
          </a:prstGeom>
          <a:noFill/>
          <a:ln w="22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3284640"/>
            <a:ext cx="1873080" cy="936360"/>
          </a:xfrm>
          <a:prstGeom prst="rect">
            <a:avLst/>
          </a:prstGeom>
          <a:noFill/>
          <a:ln w="22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281480"/>
            <a:ext cx="1873080" cy="947880"/>
          </a:xfrm>
          <a:prstGeom prst="rect">
            <a:avLst/>
          </a:prstGeom>
          <a:noFill/>
          <a:ln w="22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5278320"/>
            <a:ext cx="1873080" cy="1030320"/>
          </a:xfrm>
          <a:prstGeom prst="rect">
            <a:avLst/>
          </a:prstGeom>
          <a:noFill/>
          <a:ln w="22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2276640"/>
            <a:ext cx="8064360" cy="97128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313080"/>
            <a:ext cx="8064360" cy="93672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4292640"/>
            <a:ext cx="8064360" cy="92556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A92-D9FC-448F-8667-CE7110F20810}" type="slidenum">
              <a:t>14</a:t>
            </a:fld>
          </a:p>
        </p:txBody>
      </p:sp>
    </p:spTree>
  </p:cSld>
  <p:transition spd="slow">
    <p:dissolv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280" y="1773360"/>
            <a:ext cx="252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Question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92360" y="2492280"/>
            <a:ext cx="1625400" cy="1828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867280" y="4797360"/>
            <a:ext cx="2194200" cy="1457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724360" y="3716280"/>
            <a:ext cx="2522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Answer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831-8AAE-4A81-8BFD-0785A53DCAD5}" type="slidenum">
              <a:t>15</a:t>
            </a:fld>
          </a:p>
        </p:txBody>
      </p:sp>
    </p:spTree>
  </p:cSld>
  <p:transition spd="slow">
    <p:dissolv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Objective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7772400" cy="29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o adapt SafeSeaNet to handle new information to be provided to THETIS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o consider further improvements to be applied into SSN and falling under the existing legal framework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9307-E561-4103-9467-E117366F38A8}" type="slidenum">
              <a:t>2</a:t>
            </a:fld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Business Rule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85732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601"/>
              </a:spcBef>
              <a:buClr>
                <a:srgbClr val="002b7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have been adopted by Paris MoU Committee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452520" indent="-452520" algn="just">
              <a:spcBef>
                <a:spcPts val="601"/>
              </a:spcBef>
              <a:buClr>
                <a:srgbClr val="002b7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EMSA’s proposal is </a:t>
            </a:r>
            <a:r>
              <a:rPr b="1" lang="en-GB" sz="2400" spc="-1" strike="noStrike">
                <a:solidFill>
                  <a:srgbClr val="002b71"/>
                </a:solidFill>
                <a:latin typeface="Verdana"/>
              </a:rPr>
              <a:t>aligned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 with the business adopted rules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EC45-5931-4A01-AAE1-166F04E4BAD6}" type="slidenum">
              <a:t>3</a:t>
            </a:fld>
          </a:p>
        </p:txBody>
      </p:sp>
    </p:spTree>
  </p:cSld>
  <p:transition spd="slow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What’s new?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4200" y="2209680"/>
            <a:ext cx="604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Purpose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Message structure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Attributes and Elements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Attributes’ naming convention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Rules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26A4-69E9-4F7C-AE73-5846CF2F6285}" type="slidenum">
              <a:t>4</a:t>
            </a:fld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95640" y="3500280"/>
            <a:ext cx="4681440" cy="43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4221000"/>
            <a:ext cx="4681800" cy="43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4941720"/>
            <a:ext cx="4681440" cy="43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New Purpose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2707920"/>
            <a:ext cx="748800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Unified </a:t>
            </a:r>
            <a:r>
              <a:rPr b="0" i="1" lang="en-US" sz="2000" spc="-1" strike="noStrike">
                <a:solidFill>
                  <a:srgbClr val="002b71"/>
                </a:solidFill>
                <a:latin typeface="Verdana"/>
              </a:rPr>
              <a:t>PortPlus 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message</a:t>
            </a:r>
            <a:r>
              <a:rPr b="0" i="1" lang="en-US" sz="20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2b71"/>
                </a:solidFill>
                <a:latin typeface="Wingdings"/>
                <a:ea typeface="Wingdings"/>
              </a:rPr>
              <a:t></a:t>
            </a:r>
            <a:r>
              <a:rPr b="0" i="1" lang="en-US" sz="20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2b71"/>
                </a:solidFill>
                <a:latin typeface="Verdana"/>
              </a:rPr>
              <a:t>multi-purpose message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b71"/>
                </a:solidFill>
                <a:latin typeface="Verdana"/>
              </a:rPr>
              <a:t>Port notification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b71"/>
                </a:solidFill>
                <a:latin typeface="Verdana"/>
              </a:rPr>
              <a:t>PSC related information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b71"/>
                </a:solidFill>
                <a:latin typeface="Verdana"/>
              </a:rPr>
              <a:t>HAZMAT information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43E-82E2-4C5D-9F76-705DC3D61A7E}" type="slidenum">
              <a:t>5</a:t>
            </a:fld>
          </a:p>
        </p:txBody>
      </p:sp>
    </p:spTree>
  </p:cSld>
  <p:transition spd="slow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4869000"/>
            <a:ext cx="1943280" cy="36036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6093000"/>
            <a:ext cx="1943280" cy="36036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5445000"/>
            <a:ext cx="1942920" cy="36036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4437000"/>
            <a:ext cx="1943280" cy="36036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5661000"/>
            <a:ext cx="1943280" cy="36036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5013360"/>
            <a:ext cx="1942920" cy="36036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New message structure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7400" y="18666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2b71"/>
              </a:buClr>
              <a:buFont typeface="Verdana"/>
              <a:buChar char="•"/>
              <a:tabLst>
                <a:tab algn="l" pos="1436760"/>
                <a:tab algn="l" pos="1611360"/>
                <a:tab algn="l" pos="233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b71"/>
                </a:solidFill>
                <a:latin typeface="Verdana"/>
              </a:rPr>
              <a:t>Common </a:t>
            </a: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part: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436760"/>
                <a:tab algn="l" pos="1611360"/>
                <a:tab algn="l" pos="233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436760"/>
                <a:tab algn="l" pos="1611360"/>
                <a:tab algn="l" pos="233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VesselIdentification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436760"/>
                <a:tab algn="l" pos="1611360"/>
                <a:tab algn="l" pos="233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002b71"/>
                </a:solidFill>
                <a:uFillTx/>
                <a:latin typeface="Verdana"/>
              </a:rPr>
              <a:t>NotificationSatu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0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436760"/>
                <a:tab algn="l" pos="1611360"/>
                <a:tab algn="l" pos="233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2400" spc="-1" strike="noStrike" u="sng">
                <a:solidFill>
                  <a:srgbClr val="002b71"/>
                </a:solidFill>
                <a:uFillTx/>
                <a:latin typeface="Verdana"/>
              </a:rPr>
              <a:t>VoyageInformation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436760"/>
                <a:tab algn="l" pos="1611360"/>
                <a:tab algn="l" pos="233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436760"/>
                <a:tab algn="l" pos="1611360"/>
                <a:tab algn="l" pos="233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2b71"/>
              </a:buClr>
              <a:buFont typeface="Verdana"/>
              <a:buChar char="•"/>
              <a:tabLst>
                <a:tab algn="l" pos="1436760"/>
                <a:tab algn="l" pos="1611360"/>
                <a:tab algn="l" pos="233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b71"/>
                </a:solidFill>
                <a:latin typeface="Verdana"/>
              </a:rPr>
              <a:t>Modular </a:t>
            </a: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part: group of elements, dedicated to specific notification purposes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436760"/>
                <a:tab algn="l" pos="1611360"/>
                <a:tab algn="l" pos="233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b71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436760"/>
                <a:tab algn="l" pos="1611360"/>
                <a:tab algn="l" pos="233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3-days pre-arrival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436760"/>
                <a:tab algn="l" pos="1611360"/>
                <a:tab algn="l" pos="233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b71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436760"/>
                <a:tab algn="l" pos="1611360"/>
                <a:tab algn="l" pos="233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24-hrs pre-arrival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436760"/>
                <a:tab algn="l" pos="1611360"/>
                <a:tab algn="l" pos="233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HAZMAT EU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436760"/>
                <a:tab algn="l" pos="1611360"/>
                <a:tab algn="l" pos="233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b71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436760"/>
                <a:tab algn="l" pos="1611360"/>
                <a:tab algn="l" pos="233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HAZMAT non-EU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436760"/>
                <a:tab algn="l" pos="1611360"/>
                <a:tab algn="l" pos="233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Arrival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436760"/>
                <a:tab algn="l" pos="1611360"/>
                <a:tab algn="l" pos="233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b71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436760"/>
                <a:tab algn="l" pos="1611360"/>
                <a:tab algn="l" pos="233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Departure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9661-3D01-4196-8A16-69DC3AA73F22}" type="slidenum">
              <a:t>6</a:t>
            </a:fld>
          </a:p>
        </p:txBody>
      </p:sp>
    </p:spTree>
  </p:cSld>
  <p:transition spd="slow"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Why </a:t>
            </a:r>
            <a:r>
              <a:rPr b="1" i="1" lang="en-US" sz="2800" spc="-1" strike="noStrike">
                <a:solidFill>
                  <a:srgbClr val="0078c7"/>
                </a:solidFill>
                <a:latin typeface="Verdana"/>
              </a:rPr>
              <a:t>VoyageInformation </a:t>
            </a: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element?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o keep all voyage-related data together in order to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ensure data consistency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o cope with the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multi-purpose approach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, in fact without enforcing any unnecessary field as mandatory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o cope with the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modular approach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, avoiding meaningless duplications of data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o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support SSN-EIS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in processing easily notifications and data request/response mechanism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9458-2FFB-47D2-BB13-BDD873E37D06}" type="slidenum">
              <a:t>7</a:t>
            </a:fld>
          </a:p>
        </p:txBody>
      </p:sp>
    </p:spTree>
  </p:cSld>
  <p:transition spd="slow"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New attributes and element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727560" y="2427120"/>
            <a:ext cx="56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NotificationStatus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Update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UpdateMSRef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3680" y="3567240"/>
            <a:ext cx="43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VesselIdentification 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F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4292640"/>
            <a:ext cx="720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VoyageInformation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ShipCal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Last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PositionInPortOf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ETDfromLast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Next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ETAtoNext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C8DE-F0C5-4347-90D9-D869EE820498}" type="slidenum">
              <a:t>8</a:t>
            </a:fld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95280" y="1125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PreArrival3DaysNot… 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  PossibleAnch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Planned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   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Planned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ShipConfigu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   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CargoVolume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   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ConditionCargoBallastTa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1800" y="5321160"/>
            <a:ext cx="788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HazmatNotification…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  HazmatOnBoard Y/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DGclassification 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  POBvoyagetowardsNext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6200" y="316080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ArrivaNotification… 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  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Anch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   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5920" y="42274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DepartureNotification… 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  A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17C-C8BC-4E02-B882-1A124363631C}" type="slidenum">
              <a:t>9</a:t>
            </a:fld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1:39:15Z</dcterms:created>
  <dc:creator>lopezin</dc:creator>
  <dc:description/>
  <dc:language>en-US</dc:language>
  <cp:lastModifiedBy>FIAMMA Lorenzo</cp:lastModifiedBy>
  <cp:lastPrinted>2004-03-26T09:05:49Z</cp:lastPrinted>
  <dcterms:modified xsi:type="dcterms:W3CDTF">2009-06-09T11:00:47Z</dcterms:modified>
  <cp:revision>23</cp:revision>
  <dc:subject/>
  <dc:title>Slide 1</dc:title>
</cp:coreProperties>
</file>